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1652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3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8AB17-8DB9-45E8-A4A0-777279CF94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7920" y="739800"/>
            <a:ext cx="491976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6C3-803B-472A-A84C-3E74B13A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D37-05CE-4756-890E-2CAE6894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30E-390E-4FDA-9EB5-FB7C9ECD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EBE-FF7F-428B-8612-9D9DDA6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A88-6121-45E6-BF93-C3386097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0D6-4602-4AD7-88EE-5604671A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631-542E-4B8D-88E7-2BBCDED4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E16-50FD-4DC7-9F50-1D10A5D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B46-AFB1-4AC0-924D-E03B7ECC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347-BA9C-4297-9902-87049E0A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903-1132-4CEC-9C84-679AEAD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800-80A9-4831-B285-3FE4B177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12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9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880"/>
            <a:ext cx="90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295E90DF-AC0D-485B-9618-3E245AA9C533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1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Towards real-time e-VLBI operation: scheduling, monitoring  and calibrat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ibration (3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Convert adapted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handles Westerbork data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includes TSYS and GAINC tab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esults used in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924-405D-4501-9316-8119969702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monitoring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ostly 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most real-time callibration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fetching tools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ill some wrinkles with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517-D945-4863-985C-33562D566A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Batch” mode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4EC-FFB7-4BAA-9111-53E134D98E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9C8-A5DD-413D-A08B-873C284A8A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30192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Originally written for the HP1000/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Now emulated on 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Maintained by Ed Himw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Charter"/>
              </a:rPr>
              <a:t>Not a traditional JIVE conc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865-75FB-4EAC-A63A-402CEBF95C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2/3): </a:t>
            </a:r>
            <a:r>
              <a:rPr b="0" lang="en-GB" sz="3600" spc="-1" strike="noStrike">
                <a:solidFill>
                  <a:srgbClr val="333399"/>
                </a:solidFill>
                <a:latin typeface="Courier New"/>
              </a:rPr>
              <a:t>drud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 FS program used to process schedu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ustomised for individual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enu-driven, interactive FORTRAN progra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w scripted wit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ython/expec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DA4-B919-476F-AF5E-A0045A154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(3/3): 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ynamic workflow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distribution from JIVE (rsync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processing (-&gt; SNAP fil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chedule injection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l tested on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all at the same 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ingle dish mod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ew participants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402-9732-4C0F-B86F-6BFBAD60D7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monit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Existing piec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eld system produces logs of 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ystem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temperatur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S includes log plotte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ogpl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odification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1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sync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fetches logs to JIVE in real-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lotter re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ultiple stations in parallel (display at JIV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ing with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dditional participants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40A-47B7-444F-A826-1F423B04A3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libration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esterbork produces synthesis array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usually used for VLBI, but could b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is available “almost live”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oadmap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nd and download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data (from MS to IDI-FITS format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librat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371-48DE-47CB-83FB-5609ED459F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libration (2/3): selecting dat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98800" y="284004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AFC-6AC3-4C4B-B7BB-0A2C1363FE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